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74E-1A4C-4B42-85BA-C1D9A962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224-8B0F-4B23-91B2-739E8F2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6ED-CA00-4B0E-ADB6-171D10B4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ACD-E8D8-45DC-9135-FCF8E1AB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4F3-B68B-4925-8D64-72B296AB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2668-32F0-46A1-8D4F-3E218F0A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B91F-6A5A-424A-8B9B-0BB3790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8C2D-F148-4368-A933-57222C2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0193-E5F1-4ECF-B5CC-D6A3079C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3AC8-2932-4461-B7EF-0022EC83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D751-5F50-4F9E-A286-A96C56A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656-BE5A-4C6E-8A58-B5C3668B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B3D3-811E-4BF5-9AF9-9ED26CFD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382F-ACC7-4B1D-8CF2-650B3FEA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4FDD-39DC-4E38-81D7-D4530D2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531-0D56-4ADC-9AF1-C5AF133B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83AD-3D6C-43B3-AA79-D76ECFE9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A96-2F45-46AA-B3C3-7ABBE3FB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A56-20A8-479C-A369-B6918E8A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EBE-AFF3-4DEE-A7FF-F0AB35F5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7D6-4D41-4FF2-9A62-4C6C17E0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991-D1EE-491E-98BC-028FFC2A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F7C-6339-4E81-9ABA-F0A1B8F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6E9-E265-447B-8292-CACCA5B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D1AD-C08E-4129-9F9B-DC86B63063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DB9-67B8-4A82-B5BA-175124C68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2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27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>
                <a:gd name="textAreaLeft" fmla="*/ 0 w 1662120"/>
                <a:gd name="textAreaRight" fmla="*/ 1662480 w 1662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28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>
                <a:gd name="textAreaLeft" fmla="*/ 0 w 1049400"/>
                <a:gd name="textAreaRight" fmla="*/ 1049760 w 10494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0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6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34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>
                <a:gd name="textAreaLeft" fmla="*/ 0 w 3193920"/>
                <a:gd name="textAreaRight" fmla="*/ 3194280 w 31939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35F0-5675-43CB-AC2A-C40550D803D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26F-0159-471C-8852-9CBEB24C2F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opasnet.org/w/Opasnet_base_structure" TargetMode="External"/><Relationship Id="rId2" Type="http://schemas.openxmlformats.org/officeDocument/2006/relationships/hyperlink" Target="http://en.opasnet.org/w/Opasnet_base_structure" TargetMode="External"/><Relationship Id="rId3" Type="http://schemas.openxmlformats.org/officeDocument/2006/relationships/hyperlink" Target="http://en.opasnet.org/w/Opasnet_base_structure" TargetMode="External"/><Relationship Id="rId4" Type="http://schemas.openxmlformats.org/officeDocument/2006/relationships/hyperlink" Target="http://en.opasnet.org/w/Opasnet_base_structure" TargetMode="External"/><Relationship Id="rId5" Type="http://schemas.openxmlformats.org/officeDocument/2006/relationships/hyperlink" Target="http://en.opasnet.org/w/Opasnet_Base" TargetMode="External"/><Relationship Id="rId6" Type="http://schemas.openxmlformats.org/officeDocument/2006/relationships/hyperlink" Target="http://en.opasnet.org/w/Opasnet_Base" TargetMode="External"/><Relationship Id="rId7" Type="http://schemas.openxmlformats.org/officeDocument/2006/relationships/hyperlink" Target="http://en.opasnet.org/w/Opasnet_Base" TargetMode="External"/><Relationship Id="rId8" Type="http://schemas.openxmlformats.org/officeDocument/2006/relationships/hyperlink" Target="http://en.opasnet.org/w/Opasnet_Base" TargetMode="External"/><Relationship Id="rId9" Type="http://schemas.openxmlformats.org/officeDocument/2006/relationships/hyperlink" Target="http://fi.opasnet.org/fi/Opasnet-kanta" TargetMode="External"/><Relationship Id="rId10" Type="http://schemas.openxmlformats.org/officeDocument/2006/relationships/hyperlink" Target="http://fi.opasnet.org/fi/Opasnet-kanta" TargetMode="External"/><Relationship Id="rId11" Type="http://schemas.openxmlformats.org/officeDocument/2006/relationships/hyperlink" Target="http://fi.opasnet.org/fi/Opasnet-kanta" TargetMode="External"/><Relationship Id="rId12" Type="http://schemas.openxmlformats.org/officeDocument/2006/relationships/hyperlink" Target="http://fi.opasnet.org/fi/Opasnet-kanta" TargetMode="External"/><Relationship Id="rId13" Type="http://schemas.openxmlformats.org/officeDocument/2006/relationships/hyperlink" Target="http://fi.opasnet.org/fi/Opasnet-kanta" TargetMode="External"/><Relationship Id="rId14" Type="http://schemas.openxmlformats.org/officeDocument/2006/relationships/hyperlink" Target="http://fi.opasnet.org/fi/Opasnet-kanta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4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F77-C5C1-479D-83AC-1ADF65029C8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FF69-AAE8-4FD3-B931-1836B7D25A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Opasnet-kanta tietovarastona ja -lähteenä.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Juomaveden terveysriskit ja </a:t>
            </a:r>
            <a:br>
              <a:rPr sz="2800"/>
            </a:b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kloorauksen sivutuotteet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äivi Meriläinen, T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AD4-4E96-43BB-9783-7AD0812E5B2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3688-DB55-4107-9FE8-35616BE99B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5374440" y="2852640"/>
            <a:ext cx="2887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ulukon lii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2781360"/>
            <a:ext cx="2160360" cy="108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564000" y="3141720"/>
            <a:ext cx="1800000" cy="2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2916360" y="3933720"/>
            <a:ext cx="251928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42480" y="4076640"/>
            <a:ext cx="2603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u tietokant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ttyvä 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556000" y="357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ED6-3DCB-4CCD-88F7-02134784706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3FE-9728-44AA-87B2-7880CB112D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Oval 5"/>
          <p:cNvSpPr/>
          <p:nvPr/>
        </p:nvSpPr>
        <p:spPr>
          <a:xfrm>
            <a:off x="4067280" y="5013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076720" y="4869000"/>
            <a:ext cx="1511280" cy="43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093720" y="4292640"/>
            <a:ext cx="216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la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27F5-E7FE-46A0-B8DA-B8513573685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84DC-68F9-41B9-A805-96303FE053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 - 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172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4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27D7-F6B1-4AEE-82E6-9307576F49C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9ADA-34B0-49D6-83C7-AC4352A53B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4071960" y="4000680"/>
            <a:ext cx="457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loorauksen sivutuotteiden (trihalometaanien) aiheuttamat syöpätapaukset Suom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F08F-CE95-4BEA-982C-CF779580069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546A-3651-47F5-A69B-B84A579CAC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7560" cy="439272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2340000" y="393372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H="1" flipV="1">
            <a:off x="3499920" y="4357800"/>
            <a:ext cx="1357560" cy="714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460680" y="50720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viointiin liittyvä matemaattinen ma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CF4-0D0E-4AD6-BD7F-01794DEF0FB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B4E-3E5A-4825-BC1E-D88F214BBC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käytännössä? Esimerkki juomaveden riskinarvioinni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275520" cy="3354480"/>
          </a:xfrm>
          <a:prstGeom prst="rect">
            <a:avLst/>
          </a:prstGeom>
          <a:ln w="0">
            <a:noFill/>
          </a:ln>
        </p:spPr>
      </p:pic>
      <p:sp>
        <p:nvSpPr>
          <p:cNvPr id="194" name="Line 4"/>
          <p:cNvSpPr/>
          <p:nvPr/>
        </p:nvSpPr>
        <p:spPr>
          <a:xfrm flipH="1" flipV="1">
            <a:off x="3357360" y="3714840"/>
            <a:ext cx="2143080" cy="1000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11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143000" y="2928960"/>
            <a:ext cx="1955880" cy="571320"/>
          </a:xfrm>
          <a:custGeom>
            <a:avLst/>
            <a:gdLst>
              <a:gd name="textAreaLeft" fmla="*/ 366480 w 1955880"/>
              <a:gd name="textAreaRight" fmla="*/ 1426320 w 195588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00" hR="21600" stAng="10800000" swAng="5400000"/>
                <a:lnTo>
                  <a:pt x="11701" y="0"/>
                </a:lnTo>
                <a:arcTo wR="8100" hR="21600" stAng="-5400000" swAng="2801063"/>
                <a:lnTo>
                  <a:pt x="21137" y="14400"/>
                </a:lnTo>
                <a:lnTo>
                  <a:pt x="18000" y="21600"/>
                </a:lnTo>
                <a:lnTo>
                  <a:pt x="13936" y="14400"/>
                </a:lnTo>
                <a:lnTo>
                  <a:pt x="15736" y="14400"/>
                </a:lnTo>
                <a:arcTo wR="8100" hR="21600" stAng="-2598937" swAng="-2507863"/>
                <a:lnTo>
                  <a:pt x="9900" y="540"/>
                </a:lnTo>
                <a:arcTo wR="8100" hR="21600" stAng="-5693200" swAng="-5106800"/>
                <a:close/>
              </a:path>
              <a:path fill="darkenLess" w="21600" h="21600">
                <a:moveTo>
                  <a:pt x="0" y="21600"/>
                </a:moveTo>
                <a:arcTo wR="8100" hR="21600" stAng="10800000" swAng="5400000"/>
                <a:lnTo>
                  <a:pt x="8100" y="0"/>
                </a:lnTo>
                <a:arcTo wR="8100" hR="21600" stAng="-5400000" swAng="293200"/>
                <a:lnTo>
                  <a:pt x="9900" y="540"/>
                </a:lnTo>
                <a:arcTo wR="8100" hR="21600" stAng="-5693200" swAng="-51068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788720" y="4929120"/>
            <a:ext cx="40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n tunnus sama k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00040" y="14288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n muuttujien tieto ladataan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F40A-1B7E-44F9-9C0D-D19EADAEB01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A4EB-4AF2-4587-9043-17359E5FBA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19880" cy="3430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3276720" y="2997360"/>
            <a:ext cx="6419880" cy="343044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1116000" y="2492280"/>
            <a:ext cx="2089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2484360" y="2997360"/>
            <a:ext cx="1366920" cy="86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50072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600360" y="1500120"/>
            <a:ext cx="4326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selle muuttujalle luod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 sivu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91600" y="4357800"/>
            <a:ext cx="288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ös arviointisiv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ki muuttuj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939-C391-459F-8E9C-986893E7B29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6A86-76B1-4D6C-AF36-8718E88F5F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losten hak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052640" y="1484280"/>
            <a:ext cx="7026120" cy="4392720"/>
          </a:xfrm>
          <a:prstGeom prst="rect">
            <a:avLst/>
          </a:prstGeom>
          <a:ln w="0">
            <a:noFill/>
          </a:ln>
        </p:spPr>
      </p:pic>
      <p:sp>
        <p:nvSpPr>
          <p:cNvPr id="215" name="Oval 5"/>
          <p:cNvSpPr/>
          <p:nvPr/>
        </p:nvSpPr>
        <p:spPr>
          <a:xfrm>
            <a:off x="6804000" y="3284640"/>
            <a:ext cx="86508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21040" cy="7794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17" name="TextBox 8"/>
          <p:cNvSpPr/>
          <p:nvPr/>
        </p:nvSpPr>
        <p:spPr>
          <a:xfrm>
            <a:off x="1175760" y="60008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sivulla linkki Opasnet-ka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1A52-646B-490E-8580-1210E36D1A6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612-6B8F-40A7-A670-CD639721E4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tulo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00D4-1DC6-4431-87B6-5757E15B32E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565-A8C0-4E09-9428-B0B12F9C44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027920" cy="439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6843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A7AA-35A1-450A-A6A8-7F0555B0E73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FB02-9A69-4512-B244-28B26C8C94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Opasnet-kanta 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hin Opasnet-kantaa voi käyttä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Opasnet-kanta toimii käytännöss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mien tulosten lataaminen Opasnet-kant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: Juomaveden trihalometaanit ja virtsarakon syöpä Suome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9BAB-5365-4A19-9C56-B5FAE79C440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A66-21B9-4753-BF46-EC15A99469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BFD-36D8-49B1-920B-2196D4857A6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2B8-D4A9-4E62-9C0E-20AA690CE5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4AB-2257-4184-9DB1-6E311E4E1F7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224-C518-4780-91EE-E0AF0664B4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4E68-DD5C-4685-98B8-D94F372B485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6E5-3AEF-4700-97A1-8199ACC714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okaisen muuttujan tulokset löytyvät tietokann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218440" cy="439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571680" y="1500120"/>
            <a:ext cx="8143560" cy="5091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8543880" cy="5340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4"/>
          <a:stretch/>
        </p:blipFill>
        <p:spPr>
          <a:xfrm>
            <a:off x="1214280" y="2000160"/>
            <a:ext cx="85442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707C-0081-41C6-80FE-37FD7A61B74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49EC-A129-42DB-B1C2-66E70B963D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IITOS!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01560" y="162864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nkkejä Opasnet-kanta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3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4"/>
              </a:rPr>
              <a:t>Opasnet_base_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en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7"/>
              </a:rPr>
              <a:t>/w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8"/>
              </a:rPr>
              <a:t>Opasnet_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9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0"/>
              </a:rPr>
              <a:t>fi.opasnet.org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1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2"/>
              </a:rPr>
              <a:t>fi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3"/>
              </a:rPr>
              <a:t>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4"/>
              </a:rPr>
              <a:t>Opasnet-ka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590-8BFD-4FDD-A23F-A7F011B2837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C18D-C022-497C-B954-FE364E99E0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Opasnet-kanta o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Opasnet-kant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on osa Opasnettiä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muuttujien tuloksia sekä tutkimusdata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kanta on pyritty suunnittelemaan joustavaksi </a:t>
            </a: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soveltuu lähes kaikenlaisen datan tallettami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mat tutkimustulokset, osatulokset, analyys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iskinarvioin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uuttuj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85000"/>
              </a:lnSpc>
              <a:spcBef>
                <a:spcPts val="68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D19-9F06-4ED6-987E-2E5CC6B0B48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4C72-9659-4822-B197-537ADCFF8B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hin Opasnet-kantaa voi käyttää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. Tulkittujen malli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unperin Opasnet-kanta suunniteltiin tulkittujen mallinnustulosten tallennuspaikaksi, ts. muuttujien tuloksi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lla pyritään vastaamaan todellisuutta koskeviin kysymyksiin, ja niiden tulokset ovat tämänhetkinen paras arvio vastauksek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ien tulosten odotetaan kehittyvän jatkuv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187-1328-49E3-BBA5-AC98E684B87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82A-DD19-4778-8FEB-DC6B6F12A3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2. ”Perinteisten" tutkimustulosten taltio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taan voidaan kerätä havaintodataa tietyistä tutkimuks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"Tutkimus" voi olla perinteinen tieteellinen tutkimus (julkais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-sivut ilmaisevat havainnot jostakin tietystä tieteellisestä (osa)tutkimukse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yn tutkimuksen tuottama data pysyy muuttumattomana tutkimuksen valmistutt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58DD-FECD-4AFE-B85B-3373EF109C6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FA8D-3FE7-45FC-8B73-B2A9C04755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. Muita käyttötapo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ue-of-information analyysien tekeminen Opasnet-kann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rvioidaan epävarmuuden merkityksellisyyttä päätöksenteon kann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don hakeminen tietokan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kannassa olevien muuttujien laadun kehityksen seura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 muuttujat, jotka on joskus tallennettu Opasnet-kantaan, säilyvät siellä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kannan käyttötapoja ja -koht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nassa olevaa dataa voidaan käyttää, ladata ja tarkastel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oraan Analytica-malle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tuja- ja tutkimussivuilla olevien linkkien kau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-nettiliittymänsä kaut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nalytica-ohjelmalla toteutetulla Opasnet base connection.ANA-tietokantaliittymäll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9CD-90FE-4FC6-83F5-688C7034747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15A-8E97-4AAA-ABD2-8F0407B6F4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4AA4-1E81-4A5F-B3B8-5491B2B320F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381-3A04-4168-B17D-AD5CA4C01F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nsin luodaan dataa kuvaava sivu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udy/tutk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riable/muutt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5194440" cy="2776320"/>
          </a:xfrm>
          <a:prstGeom prst="rect">
            <a:avLst/>
          </a:prstGeom>
          <a:ln w="0">
            <a:noFill/>
          </a:ln>
        </p:spPr>
      </p:pic>
      <p:sp>
        <p:nvSpPr>
          <p:cNvPr id="133" name="Oval 5"/>
          <p:cNvSpPr/>
          <p:nvPr/>
        </p:nvSpPr>
        <p:spPr>
          <a:xfrm>
            <a:off x="5867280" y="4005360"/>
            <a:ext cx="636840" cy="18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7BDD-B77D-402C-BB11-1A0AE5A39EC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Opasnet-kanta/Päivi Merilä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C267-FD69-4372-9FEF-6D948DCE07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mien tulosten lataaminen Opasnet-ka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H="1">
            <a:off x="2771280" y="3141720"/>
            <a:ext cx="259236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1908000" y="3357720"/>
            <a:ext cx="1008360" cy="50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835280" y="458136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2987640" y="4365720"/>
            <a:ext cx="2952720" cy="35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2627280" y="3716280"/>
            <a:ext cx="1008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H="1">
            <a:off x="3347640" y="3645000"/>
            <a:ext cx="230364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6840" y="2708280"/>
            <a:ext cx="107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j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5872320" y="3284640"/>
            <a:ext cx="175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t tie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091920" y="4076640"/>
            <a:ext cx="216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tojen syött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15:23Z</dcterms:created>
  <dc:creator>mika kontio / grow.</dc:creator>
  <dc:description/>
  <dc:language>en-US</dc:language>
  <cp:lastModifiedBy>pmea</cp:lastModifiedBy>
  <dcterms:modified xsi:type="dcterms:W3CDTF">2010-02-15T06:49:42Z</dcterms:modified>
  <cp:revision>32</cp:revision>
  <dc:subject>suomi</dc:subject>
  <dc:title>THL</dc:title>
</cp:coreProperties>
</file>